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2657-4D18-4235-8772-A29D47E22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235A8-0849-41A0-8D1B-F569513D3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73E-47F1-4C32-B89C-517F29458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A5F-1BCB-4EFC-9973-FEE2A0D46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D536-9451-48A5-89DF-CDD6523E4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2185-482A-43EE-A637-C4FF9C84E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E7C1-9623-4657-8FED-B0C3CC3B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45194-A86A-4A7B-AF3B-ACB13FC2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9B93-486D-4243-A798-D893DBEC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23AB2-309A-4CF4-8889-5A46A1D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7050-E4B0-46E6-94BB-45CD5EE3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4949B-00C3-4685-8501-C4CEBEB8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6AF5-B64E-48DE-8010-2BE4CD5A5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698D-8F3B-4719-B532-957ABE37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4224D-F949-4D90-B0C9-96F5EA9C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AEA4-0060-40A6-B0CA-ECC5439F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EE8E-AA8B-43BA-929B-BCA2DD895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165B-9B46-4339-AF1C-E8544F8EB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2903-D9C0-4A04-A3F3-8B31C20C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9AA6-D438-4291-BDEB-2E4D8502C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7A9-BEDF-4F6D-BAC4-4BA8BB45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40FC-65F7-42C3-A174-B7ACD5CFA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15F3-9ED3-48D0-A86F-61568E0C1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40EF-5968-4B45-9C3D-7D8D9D30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500C-4393-41AE-8F11-5762C162B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0E6D-70A4-4847-A348-684A226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114B1-763A-4972-A21E-DC242E4713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b0a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b0a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80008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A7C5-BDF9-4897-9050-C2F32AD1A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hyperlink" Target="http://www.tcu.gov.on.ca/eng/eopg/publications/87-1734E-es_participant_registration.doc" TargetMode="Externa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2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3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4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5" Type="http://schemas.openxmlformats.org/officeDocument/2006/relationships/hyperlink" Target="http://www.211ontario.ca/ips/msearch?resultsBean.textView=false&amp;resultsBean.showAreaServed=false&amp;commonBean.location=Etobicoke&amp;resultsBean.currentPage=0&amp;resultsBean.orderType=ORGANIZATION&amp;multiBean.program=PR032&amp;multiBean.client=CL000&amp;resultsBean.index=1&amp;multiBean.includeEng=Y&amp;commonBean.langTxt=ENGLISH&amp;multiBean.zipCode=&amp;multiBean.newSearch=true&amp;multiBean.message=Employment%20Service%20Sites" TargetMode="External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cu.gov.on.ca/eng/search.html" TargetMode="External"/><Relationship Id="rId2" Type="http://schemas.openxmlformats.org/officeDocument/2006/relationships/hyperlink" Target="http://www.ontario.ca/" TargetMode="External"/><Relationship Id="rId3" Type="http://schemas.openxmlformats.org/officeDocument/2006/relationships/image" Target="../media/image5.wmf"/><Relationship Id="rId4" Type="http://schemas.openxmlformats.org/officeDocument/2006/relationships/image" Target="../media/image1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680"/>
            <a:ext cx="7239240" cy="1833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80"/>
                </a:solidFill>
                <a:latin typeface="Arial"/>
              </a:rPr>
              <a:t>The Career Foundation</a:t>
            </a:r>
            <a:br>
              <a:rPr sz="4800"/>
            </a:br>
            <a:endParaRPr b="0" lang="en-US" sz="48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294920" y="3427200"/>
            <a:ext cx="7386840" cy="25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Employment Ontar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Orientation Sess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13" descr="general"/>
          <p:cNvPicPr/>
          <p:nvPr/>
        </p:nvPicPr>
        <p:blipFill>
          <a:blip r:embed="rId1"/>
          <a:stretch/>
        </p:blipFill>
        <p:spPr>
          <a:xfrm>
            <a:off x="4572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http://careerfoundation.cxwa-dev.cyberplex.com/uploaded/tiny_mce/File/Marketing/tabs.jpg?preview=true?preview=true"/>
          <p:cNvPicPr/>
          <p:nvPr/>
        </p:nvPicPr>
        <p:blipFill>
          <a:blip r:embed="rId2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Red Eo.jpg"/>
          <p:cNvPicPr/>
          <p:nvPr/>
        </p:nvPicPr>
        <p:blipFill>
          <a:blip r:embed="rId3"/>
          <a:stretch/>
        </p:blipFill>
        <p:spPr>
          <a:xfrm>
            <a:off x="3200400" y="4800600"/>
            <a:ext cx="2971800" cy="1187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01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How to access Employment Ontario services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39" name="Picture 7" descr="general"/>
          <p:cNvPicPr/>
          <p:nvPr/>
        </p:nvPicPr>
        <p:blipFill>
          <a:blip r:embed="rId1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3"/>
          <p:cNvSpPr/>
          <p:nvPr/>
        </p:nvSpPr>
        <p:spPr>
          <a:xfrm>
            <a:off x="1295280" y="1523880"/>
            <a:ext cx="73137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ACCESS RESOURCES &amp; INF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wish to use career/computer resources &amp; job search workshops to job search on your ow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ON #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INDIVIDUALIZED EMPLOYMENT SUPPO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need one-to-one assistance to look for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mplete the following fo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http://www.tcu.gov.on.ca/eng/eopg/publications/87-1734E-es_participant_registration.do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an appointment with an Employment Counsellor to assess employment nee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btain a customized Employment Service Pla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800080"/>
              </a:buClr>
              <a:buSzPct val="7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ttend job search coaching sessions until you get a jo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69800" y="380520"/>
            <a:ext cx="7313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i="1" lang="en-US" sz="28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r>
              <a:rPr b="0" lang="en-US" sz="2800" spc="-1" strike="noStrike">
                <a:solidFill>
                  <a:srgbClr val="800080"/>
                </a:solidFill>
                <a:latin typeface="Arial"/>
              </a:rPr>
              <a:t>offices</a:t>
            </a: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Toronto West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360" y="1523520"/>
            <a:ext cx="7692840" cy="441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Career Foundation. Ontario Employment Services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tobicoke Employment Centre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5-109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wrence Square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3-0066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eston Employment Centre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89-4862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YMCA of Greater Toronto. Employment and Community Services. Etobicok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bion Mall, 1530 Albion Rd Unit 83, Toronto, ON M9V 1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1-8714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3"/>
              </a:rPr>
              <a:t>Humber College. Ontario Employment Services. North Etobicoke</a:t>
            </a: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4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620 Albion Rd 2nd Fl, Toronto, ON M9V 4B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748-720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00080"/>
                </a:solidFill>
                <a:uFillTx/>
                <a:latin typeface="Verdana"/>
                <a:hlinkClick r:id="rId5"/>
              </a:rPr>
              <a:t>PTP -- Adult Learning and Employment Programs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415 Dundas St West Ste 106, Toronto, ON M9B 1B5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9-8802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Verdana"/>
              </a:rPr>
              <a:t>JobStart. Ontario Employment Services. Lake Shore Boulevard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930 Lake Shore Blvd West, Toronto, ON M8V 1J4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31-2295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munity MicroSkills Development Centre. Ontario Employment Services 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 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 Vulcan St, Toronto, ON M9W 1L3 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16-247-718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6" descr="http://careerfoundation.cxwa-dev.cyberplex.com/uploaded/tiny_mce/File/Marketing/tabs.jpg?preview=true?preview=true"/>
          <p:cNvPicPr/>
          <p:nvPr/>
        </p:nvPicPr>
        <p:blipFill>
          <a:blip r:embed="rId6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Referral Proces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066680" y="1905120"/>
            <a:ext cx="731376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26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all the </a:t>
            </a:r>
            <a:r>
              <a:rPr b="0" i="1" lang="en-US" sz="2900" spc="-1" strike="noStrike">
                <a:solidFill>
                  <a:srgbClr val="000000"/>
                </a:solidFill>
                <a:latin typeface="Arial"/>
              </a:rPr>
              <a:t>Employment Ontario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ffice to set up a screening appointmen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Comple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REER FOUNDATION REFERRAL 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signatur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he client come into the Employment Ontario office with a completed Referral form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eneral"/>
          <p:cNvPicPr/>
          <p:nvPr/>
        </p:nvPicPr>
        <p:blipFill>
          <a:blip r:embed="rId2"/>
          <a:stretch/>
        </p:blipFill>
        <p:spPr>
          <a:xfrm>
            <a:off x="45720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careerfoundation.cxwa-dev.cyberplex.com/uploaded/tiny_mce/File/Marketing/tabs.jpg?preview=true?preview=true"/>
          <p:cNvPicPr/>
          <p:nvPr/>
        </p:nvPicPr>
        <p:blipFill>
          <a:blip r:embed="rId4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Question &amp; Answer Period 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pic>
        <p:nvPicPr>
          <p:cNvPr id="153" name="Picture 2" descr="C:\Users\nicole\AppData\Local\Microsoft\Windows\Temporary Internet Files\Content.IE5\YUHZPDZH\MC900389266[1].wmf"/>
          <p:cNvPicPr/>
          <p:nvPr/>
        </p:nvPicPr>
        <p:blipFill>
          <a:blip r:embed="rId1"/>
          <a:stretch/>
        </p:blipFill>
        <p:spPr>
          <a:xfrm>
            <a:off x="3581280" y="1905120"/>
            <a:ext cx="2743200" cy="3962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The Career Foundation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Would like to thank-you for your attendance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Have a Great Day!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13" descr="general"/>
          <p:cNvPicPr/>
          <p:nvPr/>
        </p:nvPicPr>
        <p:blipFill>
          <a:blip r:embed="rId1"/>
          <a:stretch/>
        </p:blipFill>
        <p:spPr>
          <a:xfrm>
            <a:off x="1752480" y="304920"/>
            <a:ext cx="6858000" cy="11048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71600" y="380520"/>
            <a:ext cx="73137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Employment Ontario </a:t>
            </a:r>
            <a:br>
              <a:rPr sz="4000"/>
            </a:br>
            <a:r>
              <a:rPr b="1" lang="en-US" sz="4000" spc="-1" strike="noStrike">
                <a:solidFill>
                  <a:srgbClr val="800080"/>
                </a:solidFill>
                <a:latin typeface="Arial"/>
              </a:rPr>
              <a:t>Full Suite Services</a:t>
            </a:r>
            <a:endParaRPr b="0" lang="en-US" sz="4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599840"/>
            <a:ext cx="7313400" cy="43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NE STOP SHOP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buClr>
                <a:srgbClr val="c9b957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mployment services customized to meet job seeker’s individual nee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lient Service Planning &amp; Coordin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source &amp; Information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including referrals &amp; training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Search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Matching, Placements &amp; Incentiv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c9b957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Job Retention Suppo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" descr="general"/>
          <p:cNvPicPr/>
          <p:nvPr/>
        </p:nvPicPr>
        <p:blipFill>
          <a:blip r:embed="rId1"/>
          <a:stretch/>
        </p:blipFill>
        <p:spPr>
          <a:xfrm>
            <a:off x="380880" y="0"/>
            <a:ext cx="1600200" cy="838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New</a:t>
            </a:r>
            <a:r>
              <a:rPr b="1" lang="en-US" sz="2400" spc="-1" strike="noStrike">
                <a:solidFill>
                  <a:srgbClr val="800080"/>
                </a:solidFill>
                <a:latin typeface="Verdana"/>
              </a:rPr>
              <a:t> </a:t>
            </a: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Services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mployment Ontario Service Mod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unched in Ontario 2006 with the Apprenticeship Pro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implemented across Ontario as of August 1st, 2010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4" descr="general"/>
          <p:cNvPicPr/>
          <p:nvPr/>
        </p:nvPicPr>
        <p:blipFill>
          <a:blip r:embed="rId1"/>
          <a:stretch/>
        </p:blipFill>
        <p:spPr>
          <a:xfrm>
            <a:off x="838080" y="114480"/>
            <a:ext cx="2057400" cy="799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2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Purpose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help unemployed Ontari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find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stainable employ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Picture 6" descr="http://careerfoundation.cxwa-dev.cyberplex.com/uploaded/tiny_mce/File/Marketing/tabs.jpg?preview=true?preview=true"/>
          <p:cNvPicPr/>
          <p:nvPr/>
        </p:nvPicPr>
        <p:blipFill>
          <a:blip r:embed="rId1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Vision of Employment Ontario: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2286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ll ha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educated peo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>
              <a:lnSpc>
                <a:spcPct val="100000"/>
              </a:lnSpc>
              <a:spcBef>
                <a:spcPts val="700"/>
              </a:spcBef>
              <a:buClr>
                <a:srgbClr val="800080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ly skilled workforce in North America 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 to build the province’s competi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8" name="Picture 11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eneral"/>
          <p:cNvPicPr/>
          <p:nvPr/>
        </p:nvPicPr>
        <p:blipFill>
          <a:blip r:embed="rId2"/>
          <a:stretch/>
        </p:blipFill>
        <p:spPr>
          <a:xfrm>
            <a:off x="68580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Employment Ontario’s Service Promise will:</a:t>
            </a:r>
            <a:endParaRPr b="0" lang="en-US" sz="24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66680" y="1827360"/>
            <a:ext cx="761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highest quality of service and suppor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help individuals meet their career or hiring go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opportunities to make it easier for individuals to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prove their skil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ough education and trai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sure that no matter which Employment Ontario office an individual walks into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y will get the help they ne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with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mployers and commun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uild the highly skilled, highly educated workforce Ontario needs to be competitiv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Picture 1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general"/>
          <p:cNvPicPr/>
          <p:nvPr/>
        </p:nvPicPr>
        <p:blipFill>
          <a:blip r:embed="rId2"/>
          <a:stretch/>
        </p:blipFill>
        <p:spPr>
          <a:xfrm>
            <a:off x="609480" y="152280"/>
            <a:ext cx="2057400" cy="838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80"/>
                </a:solidFill>
                <a:latin typeface="Arial"/>
              </a:rPr>
              <a:t>The Career Foundation offers the following through MTCU’s Employment Ontario model:</a:t>
            </a:r>
            <a:endParaRPr b="0" lang="en-US" sz="20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599840"/>
            <a:ext cx="7313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1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Client Service Planning &amp; Coordinating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eeds Assessment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Service Pla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Referrals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2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Resource &amp; Informatio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bour market informatio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/career resource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formation on education &amp; training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Computers/Internet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3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Search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dividual assistance in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areer decision mak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goal setting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skills analysis &amp; interview,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mployment preparation and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job search suppor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4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Matching, Placement and Incentives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tching of skills and interest with employment opportunities and job seeker needs.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Depending on training needs, incentives can be provid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5.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	</a:t>
            </a:r>
            <a:r>
              <a:rPr b="1" lang="en-US" sz="1700" spc="-1" strike="noStrike">
                <a:solidFill>
                  <a:srgbClr val="800080"/>
                </a:solidFill>
                <a:latin typeface="Arial"/>
              </a:rPr>
              <a:t>Job Training and Retention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Wingdings 2"/>
                <a:ea typeface="Wingdings 2"/>
              </a:rPr>
              <a:t>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dditional coaching and mentoring to maintain employment, complete training, or proceed to the next steps of your career path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334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general"/>
          <p:cNvPicPr/>
          <p:nvPr/>
        </p:nvPicPr>
        <p:blipFill>
          <a:blip r:embed="rId2"/>
          <a:stretch/>
        </p:blipFill>
        <p:spPr>
          <a:xfrm>
            <a:off x="533520" y="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http://careerfoundation.cxwa-dev.cyberplex.com/uploaded/tiny_mce/File/Marketing/tabs.jpg?preview=true?preview=true"/>
          <p:cNvPicPr/>
          <p:nvPr/>
        </p:nvPicPr>
        <p:blipFill>
          <a:blip r:embed="rId3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Guide to Services in Ontario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95280" y="17524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Employment Ontari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nd out how and where you can access many government service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1"/>
              </a:rPr>
              <a:t>http://www.tcu.gov.on.ca/eng/search.htm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80"/>
                </a:solidFill>
                <a:uFillTx/>
                <a:latin typeface="Verdana"/>
                <a:hlinkClick r:id="rId2"/>
              </a:rPr>
              <a:t>http://www.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211 Ontario and Toronto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ffers easy access to community, social, health and related government services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ontario.ca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211toronto.ca/splash.js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Settlement Services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ovides information and answers to settle in Ontari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settlement.org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Picture 6" descr=""/>
          <p:cNvPicPr/>
          <p:nvPr/>
        </p:nvPicPr>
        <p:blipFill>
          <a:blip r:embed="rId3"/>
          <a:stretch/>
        </p:blipFill>
        <p:spPr>
          <a:xfrm>
            <a:off x="228600" y="6392880"/>
            <a:ext cx="8686800" cy="4651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general"/>
          <p:cNvPicPr/>
          <p:nvPr/>
        </p:nvPicPr>
        <p:blipFill>
          <a:blip r:embed="rId4"/>
          <a:stretch/>
        </p:blipFill>
        <p:spPr>
          <a:xfrm>
            <a:off x="609480" y="152280"/>
            <a:ext cx="2057400" cy="800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http://careerfoundation.cxwa-dev.cyberplex.com/uploaded/tiny_mce/File/Marketing/tabs.jpg?preview=true?preview=true"/>
          <p:cNvPicPr/>
          <p:nvPr/>
        </p:nvPicPr>
        <p:blipFill>
          <a:blip r:embed="rId5"/>
          <a:stretch/>
        </p:blipFill>
        <p:spPr>
          <a:xfrm>
            <a:off x="0" y="6238800"/>
            <a:ext cx="9144000" cy="619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600" spc="-1" strike="noStrike">
                <a:solidFill>
                  <a:srgbClr val="800080"/>
                </a:solidFill>
                <a:latin typeface="Arial"/>
              </a:rPr>
              <a:t>Eligibility</a:t>
            </a:r>
            <a:endParaRPr b="0" lang="en-US" sz="3600" spc="-1" strike="noStrike">
              <a:solidFill>
                <a:srgbClr val="80008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INDEPENDENT JOB SEARCH - 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UN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All Ontarian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Verdana"/>
              </a:rPr>
              <a:t>FOR 1-1 ASSISTANCE IN JOB SEARCH -</a:t>
            </a:r>
            <a:r>
              <a:rPr b="0" i="1" lang="en-CA" sz="2000" spc="-1" strike="noStrike">
                <a:solidFill>
                  <a:srgbClr val="000000"/>
                </a:solidFill>
                <a:latin typeface="Verdana"/>
              </a:rPr>
              <a:t>ASSIS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601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Unemployed: </a:t>
            </a:r>
            <a:r>
              <a:rPr b="0" i="1" lang="en-CA" sz="2400" spc="-1" strike="noStrike">
                <a:solidFill>
                  <a:srgbClr val="000000"/>
                </a:solidFill>
                <a:latin typeface="Verdana"/>
              </a:rPr>
              <a:t>working less than 20 hours per wee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Not in Full-time studies/training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Legally entitled to work in Canada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726"/>
              </a:spcBef>
              <a:buClr>
                <a:srgbClr val="80008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900" spc="-1" strike="noStrike">
                <a:solidFill>
                  <a:srgbClr val="000000"/>
                </a:solidFill>
                <a:latin typeface="Verdana"/>
              </a:rPr>
              <a:t>Based on individual employment service need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7T15:32:56Z</dcterms:created>
  <dc:creator>zaira</dc:creator>
  <dc:description/>
  <dc:language>en-US</dc:language>
  <cp:lastModifiedBy>aholmes</cp:lastModifiedBy>
  <cp:lastPrinted>2011-05-16T17:59:17Z</cp:lastPrinted>
  <dcterms:modified xsi:type="dcterms:W3CDTF">2011-07-08T18:59:11Z</dcterms:modified>
  <cp:revision>173</cp:revision>
  <dc:subject/>
  <dc:title>You’re Hired! Now what???</dc:title>
</cp:coreProperties>
</file>